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77C-3E64-45EA-8626-BE344811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0A3-F34D-44B3-A41D-E2BF2362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30D-C640-49FF-88CE-DB03777E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40F-43AA-49F5-BE9E-0430581D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E67-9D11-4EB4-BBDC-74BD325F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288-F8D3-42E3-9414-44575F93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BF6-D8CE-4273-B90C-0CB13C2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D44-C579-4F0C-909A-4AF0F043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8DB-F481-4CC5-BDE3-C93F7A0E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D40-1E30-4605-88CD-A4245583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3D4-48EE-4862-8C59-E893090F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179-F743-4D3D-B288-152536EB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EFF7-397F-45E0-B1BF-23B8D8D98A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83944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.Many people who saw the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ilm were </a:t>
            </a:r>
            <a:r>
              <a:rPr b="1" i="1" lang="zh-CN" sz="2400" spc="-1" strike="noStrike">
                <a:solidFill>
                  <a:srgbClr val="fc3000"/>
                </a:solidFill>
                <a:latin typeface="Times New Roman"/>
              </a:rPr>
              <a:t>afrai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to swim in the se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rai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用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sb/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to do sth/of doing 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doing sth  /  be afraid +that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m afra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4191120"/>
            <a:ext cx="883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1. He seldom stands on the river bank because he is afraid that he might fall into th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2. I’m afraid I can’t agree with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21:12Z</dcterms:created>
  <dc:creator>user</dc:creator>
  <dc:description/>
  <dc:language>en-US</dc:language>
  <cp:lastModifiedBy>user</cp:lastModifiedBy>
  <dcterms:modified xsi:type="dcterms:W3CDTF">2003-09-18T02:21:28Z</dcterms:modified>
  <cp:revision>1</cp:revision>
  <dc:subject/>
  <dc:title>PowerPoint 演示文稿</dc:title>
</cp:coreProperties>
</file>